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B0E-3537-49E6-9AAA-4432B251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616-E238-4C9A-98B6-22B6F8B1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EC7-678A-4883-9920-37547500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DB6-9B30-402F-B504-F7D7A23F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051-F086-4B95-9294-A1DE6E5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595-74B0-4626-9777-461DB27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64A-16BA-4945-878E-FFE3E02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B45-6B64-4616-9C0D-C5C8D44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973-DB2F-4FC1-BD3E-9801B25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3A9-E279-456E-8405-AF9F1A8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B2F-C93A-4616-822D-20179EA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E41-BF8A-457C-B2D3-045F8BBF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10A-B8BF-41A8-87C6-EC53612C5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1676520"/>
            <a:ext cx="6858000" cy="3962160"/>
            <a:chOff x="685800" y="1676520"/>
            <a:chExt cx="6858000" cy="3962160"/>
          </a:xfrm>
        </p:grpSpPr>
        <p:sp>
          <p:nvSpPr>
            <p:cNvPr id="42" name=""/>
            <p:cNvSpPr/>
            <p:nvPr/>
          </p:nvSpPr>
          <p:spPr>
            <a:xfrm>
              <a:off x="685800" y="1676520"/>
              <a:ext cx="68580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43000" y="2057400"/>
              <a:ext cx="1219320" cy="31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5840" y="2057400"/>
              <a:ext cx="1220760" cy="31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76720" y="2590920"/>
              <a:ext cx="16002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6720" y="26827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ncial intermedi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76920" y="274320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876560" y="31240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62320" y="312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62320" y="2743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5066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2514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9200" y="31240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3124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362320" y="457200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19112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38098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 financ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3962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45720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ur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81160" y="3451320"/>
              <a:ext cx="114300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en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urplus of fu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91320" y="3451320"/>
              <a:ext cx="13716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rrow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deficit of fund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205740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rect financ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92240" y="2017800"/>
            <a:ext cx="5896080" cy="24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2720" y="2782800"/>
            <a:ext cx="1352520" cy="90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54200" y="2784600"/>
            <a:ext cx="135252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1640" y="2965320"/>
            <a:ext cx="19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033720" y="3554280"/>
            <a:ext cx="1977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38400" y="327168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interest at LI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21000" y="2685960"/>
            <a:ext cx="15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interest at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3422520"/>
            <a:ext cx="6399360" cy="2055960"/>
            <a:chOff x="0" y="3422520"/>
            <a:chExt cx="6399360" cy="2055960"/>
          </a:xfrm>
        </p:grpSpPr>
        <p:sp>
          <p:nvSpPr>
            <p:cNvPr id="307" name=""/>
            <p:cNvSpPr/>
            <p:nvPr/>
          </p:nvSpPr>
          <p:spPr>
            <a:xfrm>
              <a:off x="0" y="3422520"/>
              <a:ext cx="6399360" cy="20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12960" y="3846600"/>
              <a:ext cx="946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70320" y="3846600"/>
              <a:ext cx="94644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wa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unterpar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5680" y="3846600"/>
              <a:ext cx="946080" cy="6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82760" y="448452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3480" y="4923000"/>
              <a:ext cx="21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venues i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rrency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27320" y="3973680"/>
              <a:ext cx="137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59040" y="3976560"/>
              <a:ext cx="15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659040" y="4386240"/>
              <a:ext cx="15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320480" y="43862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98600" y="4187880"/>
              <a:ext cx="129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 9%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8600" y="4187880"/>
              <a:ext cx="14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ceive 9%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65200" y="3778200"/>
              <a:ext cx="115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an in Currency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59120" y="3784680"/>
              <a:ext cx="1352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 10% in Currency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368280" y="2370240"/>
            <a:ext cx="4516560" cy="3409920"/>
            <a:chOff x="368280" y="2370240"/>
            <a:chExt cx="4516560" cy="3409920"/>
          </a:xfrm>
        </p:grpSpPr>
        <p:sp>
          <p:nvSpPr>
            <p:cNvPr id="322" name=""/>
            <p:cNvSpPr/>
            <p:nvPr/>
          </p:nvSpPr>
          <p:spPr>
            <a:xfrm>
              <a:off x="368280" y="2370240"/>
              <a:ext cx="4516560" cy="34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41520" y="2627280"/>
              <a:ext cx="3876480" cy="2986200"/>
              <a:chOff x="641520" y="2627280"/>
              <a:chExt cx="3876480" cy="2986200"/>
            </a:xfrm>
          </p:grpSpPr>
          <p:sp>
            <p:nvSpPr>
              <p:cNvPr id="324" name=""/>
              <p:cNvSpPr/>
              <p:nvPr/>
            </p:nvSpPr>
            <p:spPr>
              <a:xfrm>
                <a:off x="1119240" y="2627280"/>
                <a:ext cx="3384360" cy="264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82800" y="3759120"/>
                <a:ext cx="1363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77880" y="5367240"/>
                <a:ext cx="247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bt Ratio, D/(D+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19240" y="3510000"/>
                <a:ext cx="3384360" cy="1066680"/>
              </a:xfrm>
              <a:custGeom>
                <a:avLst/>
                <a:gdLst/>
                <a:ahLst/>
                <a:rect l="l" t="t" r="r" b="b"/>
                <a:pathLst>
                  <a:path w="2132" h="672">
                    <a:moveTo>
                      <a:pt x="0" y="457"/>
                    </a:moveTo>
                    <a:cubicBezTo>
                      <a:pt x="446" y="228"/>
                      <a:pt x="892" y="0"/>
                      <a:pt x="1247" y="36"/>
                    </a:cubicBezTo>
                    <a:cubicBezTo>
                      <a:pt x="1602" y="72"/>
                      <a:pt x="1867" y="372"/>
                      <a:pt x="2132" y="672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33640" y="4235400"/>
                <a:ext cx="33843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00200" y="4006800"/>
                <a:ext cx="24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 without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53960" y="3259080"/>
                <a:ext cx="217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Value of company with deb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52560" y="3489480"/>
            <a:ext cx="4457520" cy="3308040"/>
            <a:chOff x="52560" y="3489480"/>
            <a:chExt cx="4457520" cy="3308040"/>
          </a:xfrm>
        </p:grpSpPr>
        <p:sp>
          <p:nvSpPr>
            <p:cNvPr id="64" name=""/>
            <p:cNvSpPr/>
            <p:nvPr/>
          </p:nvSpPr>
          <p:spPr>
            <a:xfrm>
              <a:off x="52560" y="3489480"/>
              <a:ext cx="4457520" cy="33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9520" y="3727440"/>
              <a:ext cx="3089520" cy="2616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7840" y="63435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7840" y="58183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7840" y="52927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77840" y="47782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7840" y="42530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7840" y="37274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10952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55592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99080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43684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87172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17760" y="63435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75300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99040" y="6343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6680" y="57834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03240" y="50547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8240" y="54007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78240" y="4754520"/>
              <a:ext cx="712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09800" y="5627520"/>
              <a:ext cx="716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82880" y="426564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18000" y="385920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9920" y="593712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un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0480" y="520848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63520" y="55562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31720" y="49100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ge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85600" y="578340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15480" y="4421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ntur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57960" y="46004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66880" y="40147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0000" y="6261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9800" y="57355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960" y="5208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4840" y="469584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5000" y="4170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160" y="36432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3480" y="64515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-9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4040" y="645156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r-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84160" y="6451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y-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7040" y="645156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n-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-215280" y="49744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quity Raised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560" y="3489480"/>
              <a:ext cx="4457520" cy="33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87360" y="457200"/>
            <a:ext cx="5060880" cy="1254240"/>
            <a:chOff x="387360" y="457200"/>
            <a:chExt cx="5060880" cy="1254240"/>
          </a:xfrm>
        </p:grpSpPr>
        <p:sp>
          <p:nvSpPr>
            <p:cNvPr id="108" name=""/>
            <p:cNvSpPr/>
            <p:nvPr/>
          </p:nvSpPr>
          <p:spPr>
            <a:xfrm>
              <a:off x="4487760" y="1440000"/>
              <a:ext cx="393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" y="457200"/>
              <a:ext cx="5060880" cy="125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204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2560" y="9190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8460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16280" y="9190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9190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2880" y="700200"/>
              <a:ext cx="2397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93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54200" y="70020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3960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3800" y="700200"/>
              <a:ext cx="243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07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35480" y="70020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79560" y="71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040" y="1122480"/>
              <a:ext cx="571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2200" y="113832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7880" y="1139760"/>
              <a:ext cx="7333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57240" y="1157400"/>
              <a:ext cx="35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87040" y="131436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87040" y="146988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7800" y="700200"/>
              <a:ext cx="63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1520" y="7174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5680" y="14619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800" y="984240"/>
              <a:ext cx="412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95280" y="1905120"/>
            <a:ext cx="5060880" cy="1253880"/>
            <a:chOff x="395280" y="1905120"/>
            <a:chExt cx="5060880" cy="1253880"/>
          </a:xfrm>
        </p:grpSpPr>
        <p:sp>
          <p:nvSpPr>
            <p:cNvPr id="134" name=""/>
            <p:cNvSpPr/>
            <p:nvPr/>
          </p:nvSpPr>
          <p:spPr>
            <a:xfrm>
              <a:off x="395280" y="1905120"/>
              <a:ext cx="5060880" cy="12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4464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5160" y="234792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9720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28880" y="234792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1840" y="2347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6400" y="2147760"/>
              <a:ext cx="239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28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7720" y="214776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90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7680" y="2147760"/>
              <a:ext cx="243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586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214776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87480" y="2165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560" y="2570040"/>
              <a:ext cx="571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720" y="25858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51320" y="21477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5040" y="216540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0480" y="2548080"/>
              <a:ext cx="905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4680" y="2900520"/>
              <a:ext cx="6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388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4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6440" y="2548080"/>
              <a:ext cx="695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27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3040" y="2413080"/>
              <a:ext cx="41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880" y="3352680"/>
            <a:ext cx="5061240" cy="1254240"/>
            <a:chOff x="380880" y="3352680"/>
            <a:chExt cx="5061240" cy="1254240"/>
          </a:xfrm>
        </p:grpSpPr>
        <p:sp>
          <p:nvSpPr>
            <p:cNvPr id="159" name=""/>
            <p:cNvSpPr/>
            <p:nvPr/>
          </p:nvSpPr>
          <p:spPr>
            <a:xfrm>
              <a:off x="380880" y="3352680"/>
              <a:ext cx="5061240" cy="125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556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644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7812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016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1840" y="381492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400" y="3595680"/>
              <a:ext cx="2397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28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47720" y="3595680"/>
              <a:ext cx="3412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3312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7680" y="3595680"/>
              <a:ext cx="243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42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9000" y="359568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3613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4017960"/>
              <a:ext cx="571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5720" y="40338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51400" y="4035600"/>
              <a:ext cx="7333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2920" y="4191120"/>
              <a:ext cx="35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3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38080" y="4043520"/>
              <a:ext cx="42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5760" y="4362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7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51320" y="359568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95040" y="361332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4343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6400" y="3879720"/>
              <a:ext cx="40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80880" y="4724280"/>
            <a:ext cx="5061240" cy="1235160"/>
            <a:chOff x="380880" y="4724280"/>
            <a:chExt cx="5061240" cy="1235160"/>
          </a:xfrm>
        </p:grpSpPr>
        <p:sp>
          <p:nvSpPr>
            <p:cNvPr id="184" name=""/>
            <p:cNvSpPr/>
            <p:nvPr/>
          </p:nvSpPr>
          <p:spPr>
            <a:xfrm>
              <a:off x="380880" y="4724280"/>
              <a:ext cx="506124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4720" y="52228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5600" y="522288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6844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9248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62440" y="522288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5560" y="5011560"/>
              <a:ext cx="241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94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36840" y="501156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176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7600" y="5011560"/>
              <a:ext cx="241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3496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501156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19040" y="502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3920" y="5407200"/>
              <a:ext cx="5731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8280" y="542304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016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71920" y="50115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91880" y="502920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6760" y="5407200"/>
              <a:ext cx="7318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6592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08160" y="5407200"/>
              <a:ext cx="730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732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0120" y="5407200"/>
              <a:ext cx="733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69280" y="54230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41.6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9040" y="52880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5320" y="5289480"/>
              <a:ext cx="185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1440" y="5289480"/>
              <a:ext cx="147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80880" y="736560"/>
            <a:ext cx="5061240" cy="1235160"/>
            <a:chOff x="380880" y="736560"/>
            <a:chExt cx="5061240" cy="1235160"/>
          </a:xfrm>
        </p:grpSpPr>
        <p:sp>
          <p:nvSpPr>
            <p:cNvPr id="213" name=""/>
            <p:cNvSpPr/>
            <p:nvPr/>
          </p:nvSpPr>
          <p:spPr>
            <a:xfrm>
              <a:off x="380880" y="736560"/>
              <a:ext cx="506124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4720" y="123516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5600" y="123516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6844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9248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2440" y="123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25560" y="1023840"/>
              <a:ext cx="241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0944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36840" y="102384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176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7600" y="1023840"/>
              <a:ext cx="2415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4960" y="104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9880" y="102384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19040" y="1041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3920" y="1419120"/>
              <a:ext cx="5731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8280" y="143496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2016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71920" y="102384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1880" y="10414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Month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36760" y="1419120"/>
              <a:ext cx="731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6592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08160" y="1419120"/>
              <a:ext cx="7304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732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40120" y="1419120"/>
              <a:ext cx="7333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9280" y="143496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93.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9040" y="13003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3480" y="1301760"/>
              <a:ext cx="182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1440" y="1301760"/>
              <a:ext cx="147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533520" y="4114800"/>
            <a:ext cx="5060880" cy="1235160"/>
            <a:chOff x="533520" y="4114800"/>
            <a:chExt cx="5060880" cy="1235160"/>
          </a:xfrm>
        </p:grpSpPr>
        <p:sp>
          <p:nvSpPr>
            <p:cNvPr id="242" name=""/>
            <p:cNvSpPr/>
            <p:nvPr/>
          </p:nvSpPr>
          <p:spPr>
            <a:xfrm>
              <a:off x="533520" y="4114800"/>
              <a:ext cx="5060880" cy="12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3480" y="454500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6160" y="454500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89200" y="4545000"/>
              <a:ext cx="14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76720" y="4545000"/>
              <a:ext cx="144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21200" y="4545000"/>
              <a:ext cx="1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4320" y="4354560"/>
              <a:ext cx="2412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68200" y="436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5600" y="4368960"/>
              <a:ext cx="3427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4760" y="436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6600" y="4359240"/>
              <a:ext cx="243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47440" y="43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8640" y="4363920"/>
              <a:ext cx="5637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40000" y="437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12680" y="4729320"/>
              <a:ext cx="5731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43640" y="47466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0680" y="4368960"/>
              <a:ext cx="633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90240" y="438300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95520" y="4729320"/>
              <a:ext cx="7318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552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66920" y="4729320"/>
              <a:ext cx="730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1244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98880" y="4729320"/>
              <a:ext cx="733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1580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0920" y="4729320"/>
              <a:ext cx="7336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3328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63080" y="4902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63080" y="505944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33680" y="4545000"/>
              <a:ext cx="1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27320" y="4359240"/>
              <a:ext cx="561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04880" y="43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66920" y="4729320"/>
              <a:ext cx="73368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7200" y="47466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8480" y="505476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4840" y="4610160"/>
              <a:ext cx="401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22280" y="1282680"/>
            <a:ext cx="8201160" cy="451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72080" y="1490760"/>
            <a:ext cx="144756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15811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8" idx="2"/>
            <a:endCxn id="281" idx="0"/>
          </p:cNvCxnSpPr>
          <p:nvPr/>
        </p:nvCxnSpPr>
        <p:spPr>
          <a:xfrm rot="5400000">
            <a:off x="2540880" y="772920"/>
            <a:ext cx="747000" cy="3162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6212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480" y="28018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ey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324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3240" y="29084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nd 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2727360"/>
            <a:ext cx="114300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24360" y="29084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ty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05480" y="2732040"/>
            <a:ext cx="1143000" cy="60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05480" y="2727360"/>
            <a:ext cx="114300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2727360"/>
            <a:ext cx="1144440" cy="60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58160" y="283212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odities 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78" idx="2"/>
            <a:endCxn id="285" idx="0"/>
          </p:cNvCxnSpPr>
          <p:nvPr/>
        </p:nvCxnSpPr>
        <p:spPr>
          <a:xfrm>
            <a:off x="4495320" y="1980720"/>
            <a:ext cx="1080" cy="747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8" idx="2"/>
            <a:endCxn id="283" idx="0"/>
          </p:cNvCxnSpPr>
          <p:nvPr/>
        </p:nvCxnSpPr>
        <p:spPr>
          <a:xfrm rot="5400000">
            <a:off x="3331440" y="1563480"/>
            <a:ext cx="747000" cy="1581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8" idx="0"/>
          </p:cNvCxnSpPr>
          <p:nvPr/>
        </p:nvCxnSpPr>
        <p:spPr>
          <a:xfrm flipH="1" rot="16200000">
            <a:off x="4912920" y="1563120"/>
            <a:ext cx="747000" cy="15818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9" idx="0"/>
          </p:cNvCxnSpPr>
          <p:nvPr/>
        </p:nvCxnSpPr>
        <p:spPr>
          <a:xfrm flipH="1" rot="16200000">
            <a:off x="5703480" y="771840"/>
            <a:ext cx="747000" cy="3164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758880" y="3641760"/>
            <a:ext cx="27162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33480" y="3727440"/>
            <a:ext cx="23670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ey and Bond Marke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est-bearing marke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xed interest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43240" y="4586400"/>
            <a:ext cx="271440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57360" y="4714920"/>
            <a:ext cx="248760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nd and Equity Marke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ital Mark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3:48:24Z</dcterms:created>
  <dc:creator>Frank Crundwell</dc:creator>
  <dc:description/>
  <dc:language>en-US</dc:language>
  <cp:lastModifiedBy>frank crundwell</cp:lastModifiedBy>
  <dcterms:modified xsi:type="dcterms:W3CDTF">2007-08-16T17:11:05Z</dcterms:modified>
  <cp:revision>23</cp:revision>
  <dc:subject/>
  <dc:title>Financial System</dc:title>
</cp:coreProperties>
</file>